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4289-F9B1-405A-BFF5-F0C60697D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B015-CE84-4C1D-9A50-09CB48BF2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BEB6-C455-4B93-B07E-F3EDC8BCD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5B0B-BFD8-4EAA-B80D-5AB696D83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2FDF-7701-44D1-9FC3-CCD1EC5EC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83EF-9F0D-4356-A336-A10883ABC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443B-7003-4F38-884F-BA48AC4CA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3B32-7C69-4A8E-A156-40BD0DA7B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F40F-20D2-4ABC-8476-9F0C9070D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B6F5-6E50-46BA-BFC3-489473D6E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6A85-8BEF-49E8-ADA6-3E8703C4B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841C-39BC-49AE-95AB-ACE7E8559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AF7-82C1-4A37-95D2-FD741A55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66A-136E-4EF3-BC43-104622E7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AEC-E247-424C-A6C7-8A64B857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F9D-EB49-41DA-A746-71C74ECC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AAF8-3FBE-4CFA-AAE9-E06DDD2F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D0FA-930F-472E-AE98-6E4DB1A3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3023-7582-465E-AD56-D2B13A01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ADCC-69BB-4D9B-999B-784989FE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B46B-0F6A-46FF-8A73-88A3A413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C85E-CB85-4663-B5B4-24317ECD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80B9-7AF6-45FA-9A89-C2C49638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D97-80B0-45D3-B55F-16E52BFA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D915-364F-4994-85BF-034098BE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A2F5-D1FC-4CB1-AEA4-C259122C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1352-AA51-4DA4-AD6B-DEE00EE7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CBB0-6657-41C0-BB8F-0CD080A9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2EE1-D1E9-4ACB-9AD0-E60354EF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B64-E218-41B5-82B2-A35E5AB7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068-6733-4BC9-9EC1-28E731CE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BD1-0E67-4515-AA99-7874E177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92D-C945-4934-B5A5-7F9D8CC4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2D4-8FEA-4BAD-A4A9-C41D3880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55FC-3E6F-4303-A5A1-48D46977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2A0-8E11-4905-B8A6-9701950A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87FF-62D4-4944-86F1-8A9C2C5553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CFC1-C35B-427E-B439-B67F211E91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ichi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you determine which reactant is limited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200g of sulfur reacts with 100g of chlorine, what mass of disulfur dichloride is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moles of the reactants based on their m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if the two reactants are in the correct mole ratio as given by the balanced chemical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number of moles of the limiting reaction as your given value to calculate the mass of the product that could be pro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2590920" y="1143000"/>
                <a:ext cx="36702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else can you do 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how much reactant is in excess once the reaction is carri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 Calculate the actual amount of the excess reactant that is required by using the given quantity of the limiting reacta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 Calculate the difference between the amount of the excess reactant required and the amount that is giv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0" y="762120"/>
            <a:ext cx="9144000" cy="65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lorine is used by textile manufacturers to bleach cloth.  Excess chlorine is destroyed by its reaction with sodium thiosulfate,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__N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+ __C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+ __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__NaHS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+ __HC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is the mole ratio N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C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the balanced chemical equati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many grams sodium thiosulfate is needed to completely destroy 103g of chlorin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s 75g of N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adequate quantity to destroy 35g of C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ich reactant is in excess?  And how much is left over after the reaction occur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cent Yiel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ichiometric calculations provide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oretical 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maximum amount of product that can be produced from a given amount of reactan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ual 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mount that is actually produced when a reaction is carried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cent 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lects the ratio of the theoretical and actual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838080" y="5715000"/>
                <a:ext cx="74678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cent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Yiel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xperimen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heoreticalYiel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oichiometr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cent Yield Probl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anol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) is produced from the fermentation of sucr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theoretical and percent yields of ethanol if 684g sucrose undergoes fermentation and 349g of ethanol are obt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609480" y="2743200"/>
                <a:ext cx="61405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0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Top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on of mass and the balanced chemica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 ratios in a chemica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ichiometric calculations involving reactants an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Stoichiometr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ichiometry is the study of quantitative relationships between amounts of reactants used and products formed by a chemical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l_product_image"/>
          <p:cNvPicPr/>
          <p:nvPr/>
        </p:nvPicPr>
        <p:blipFill>
          <a:blip r:embed="rId1"/>
          <a:stretch/>
        </p:blipFill>
        <p:spPr>
          <a:xfrm>
            <a:off x="2666880" y="3556080"/>
            <a:ext cx="342900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ctical Applications of Stoichiomet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spacecraft, the carbon dioxide exhaled by astronauts can be removed by its reaction with lithium hydroxide, LiOH, according to the following chemical equatio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+ 2LiOH(s)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les of lithium hydroxide are required to react with 20 mol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average amount exhaled by a person each d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39625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ategy – Relate everything to the mo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mole01"/>
          <p:cNvPicPr/>
          <p:nvPr/>
        </p:nvPicPr>
        <p:blipFill>
          <a:blip r:embed="rId1"/>
          <a:stretch/>
        </p:blipFill>
        <p:spPr>
          <a:xfrm>
            <a:off x="6019920" y="1371600"/>
            <a:ext cx="2971800" cy="2048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533520" y="19051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le is the common thread that links reactants to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838080" y="365760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H(s)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) +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41148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3962520" y="4495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2"/>
              <p:cNvSpPr txBox="1"/>
              <p:nvPr/>
            </p:nvSpPr>
            <p:spPr>
              <a:xfrm>
                <a:off x="457200" y="5181480"/>
                <a:ext cx="1523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3"/>
              <p:cNvSpPr txBox="1"/>
              <p:nvPr/>
            </p:nvSpPr>
            <p:spPr>
              <a:xfrm>
                <a:off x="2057400" y="5181480"/>
                <a:ext cx="1601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4"/>
              <p:cNvSpPr txBox="1"/>
              <p:nvPr/>
            </p:nvSpPr>
            <p:spPr>
              <a:xfrm>
                <a:off x="3849840" y="5143680"/>
                <a:ext cx="12920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5"/>
              <p:cNvSpPr txBox="1"/>
              <p:nvPr/>
            </p:nvSpPr>
            <p:spPr>
              <a:xfrm>
                <a:off x="5219640" y="5143680"/>
                <a:ext cx="16020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6"/>
              <p:cNvSpPr txBox="1"/>
              <p:nvPr/>
            </p:nvSpPr>
            <p:spPr>
              <a:xfrm>
                <a:off x="7012080" y="5105520"/>
                <a:ext cx="15224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Mole Super Highw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649600" y="3886200"/>
            <a:ext cx="78084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144440" y="5394240"/>
            <a:ext cx="81288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857160" y="198108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1471680" y="4219560"/>
            <a:ext cx="1350720" cy="11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1673280" y="4289400"/>
            <a:ext cx="125712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1959120" y="2322360"/>
            <a:ext cx="1047600" cy="160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 flipH="1" flipV="1">
            <a:off x="2025720" y="2206800"/>
            <a:ext cx="1038240" cy="164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1957320" y="5462640"/>
            <a:ext cx="163692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molar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214720" y="2128680"/>
            <a:ext cx="201924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6.02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5468760" y="3809880"/>
            <a:ext cx="86688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504200" y="5460840"/>
            <a:ext cx="78408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7015320" y="2038320"/>
            <a:ext cx="11966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5908680" y="4238640"/>
            <a:ext cx="1581120" cy="11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 flipH="1" flipV="1">
            <a:off x="5968800" y="4146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 flipH="1">
            <a:off x="5826240" y="2370240"/>
            <a:ext cx="120960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5911920" y="2396880"/>
            <a:ext cx="1228680" cy="14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5867280" y="5500800"/>
            <a:ext cx="160020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molar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4995720" y="2128680"/>
            <a:ext cx="201960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6.02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3943440" y="4289400"/>
            <a:ext cx="12286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3335400" y="40384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7"/>
          <p:cNvSpPr/>
          <p:nvPr/>
        </p:nvSpPr>
        <p:spPr>
          <a:xfrm flipH="1">
            <a:off x="3335040" y="4191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018440" y="4038120"/>
            <a:ext cx="1662120" cy="108360"/>
            <a:chOff x="1018440" y="4038120"/>
            <a:chExt cx="1662120" cy="108360"/>
          </a:xfrm>
        </p:grpSpPr>
        <p:cxnSp>
          <p:nvCxnSpPr>
            <p:cNvPr id="146" name="Straight Arrow Connector 2"/>
            <p:cNvCxnSpPr/>
            <p:nvPr/>
          </p:nvCxnSpPr>
          <p:spPr>
            <a:xfrm flipH="1">
              <a:off x="1018440" y="4038120"/>
              <a:ext cx="1631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47" name="Straight Arrow Connector 26"/>
            <p:cNvCxnSpPr/>
            <p:nvPr/>
          </p:nvCxnSpPr>
          <p:spPr>
            <a:xfrm flipV="1">
              <a:off x="1049760" y="4145760"/>
              <a:ext cx="1631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48" name="Group 28"/>
          <p:cNvGrpSpPr/>
          <p:nvPr/>
        </p:nvGrpSpPr>
        <p:grpSpPr>
          <a:xfrm>
            <a:off x="6182640" y="3984120"/>
            <a:ext cx="1663560" cy="108360"/>
            <a:chOff x="6182640" y="3984120"/>
            <a:chExt cx="1663560" cy="108360"/>
          </a:xfrm>
        </p:grpSpPr>
        <p:cxnSp>
          <p:nvCxnSpPr>
            <p:cNvPr id="149" name="Straight Arrow Connector 29"/>
            <p:cNvCxnSpPr/>
            <p:nvPr/>
          </p:nvCxnSpPr>
          <p:spPr>
            <a:xfrm flipH="1">
              <a:off x="6182640" y="3984120"/>
              <a:ext cx="1632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50" name="Straight Arrow Connector 30"/>
            <p:cNvCxnSpPr/>
            <p:nvPr/>
          </p:nvCxnSpPr>
          <p:spPr>
            <a:xfrm flipV="1">
              <a:off x="6213960" y="4091760"/>
              <a:ext cx="1632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51" name="Rectangle 25"/>
          <p:cNvSpPr/>
          <p:nvPr/>
        </p:nvSpPr>
        <p:spPr>
          <a:xfrm>
            <a:off x="119160" y="4238640"/>
            <a:ext cx="1861920" cy="31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22.4L at (S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7140600" y="4219560"/>
            <a:ext cx="1862280" cy="31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22.4L at (S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7846920" y="3827520"/>
            <a:ext cx="11145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14480" y="3822840"/>
            <a:ext cx="10299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369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ass of oxygen is needed to fully combust 12.5g etha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1828800" y="4078440"/>
                <a:ext cx="497844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actice Probl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609480" y="13716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moles of water are formed when 3.8 moles of Hydrogen react with an excess of Oxy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actice Problem Involving Volu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ot at S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olume of nitrogen gas that would be produced from 12.6g of ammonia 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nsity of nitrogen is 0.808g/ml under the temperature conditions for this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miting Reacta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reactions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2057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 all of the reactants get used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33520" y="2666880"/>
            <a:ext cx="816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miting React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mit the extent of the reaction and thereby determines the amount of th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over reactants are call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cess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07-Tam-line-out-boys"/>
          <p:cNvPicPr/>
          <p:nvPr/>
        </p:nvPicPr>
        <p:blipFill>
          <a:blip r:embed="rId1"/>
          <a:stretch/>
        </p:blipFill>
        <p:spPr>
          <a:xfrm>
            <a:off x="1143000" y="43434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News1_4"/>
          <p:cNvPicPr/>
          <p:nvPr/>
        </p:nvPicPr>
        <p:blipFill>
          <a:blip r:embed="rId2"/>
          <a:stretch/>
        </p:blipFill>
        <p:spPr>
          <a:xfrm>
            <a:off x="4800600" y="4357800"/>
            <a:ext cx="243828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1:59:06Z</dcterms:created>
  <dc:creator>Dawn Pav</dc:creator>
  <dc:description/>
  <dc:language>en-US</dc:language>
  <cp:lastModifiedBy>Dawn</cp:lastModifiedBy>
  <dcterms:modified xsi:type="dcterms:W3CDTF">2013-03-29T16:10:22Z</dcterms:modified>
  <cp:revision>11</cp:revision>
  <dc:subject/>
  <dc:title>Chapter 12</dc:title>
</cp:coreProperties>
</file>